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3E446-7CE0-4C7A-977A-B6D8F681B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C0DA7-1A3B-4E6A-A874-E63FA1B5E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29843-0529-4E4B-B4C2-787976545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9F185-78CA-4CE7-BB33-338CC7F9A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49680E-2A3F-48E0-9C2A-AFA9DABA05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F540D-0E39-43BA-8599-228C9C454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2BA29-C48E-4F96-BEF4-4D77278DA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2D23E-2CD6-4DB3-B9BB-3EAA73E6E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67158-241E-43E1-BB1B-EF9658DC4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E68A8-017E-4EA1-B609-1B507E960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96603-538D-4BA6-8BBF-2566E2E75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F84D7-6A59-403C-8934-46B84F22F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FF609-BBF0-449F-A983-A959CFA12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2072C-84BA-47BC-81EF-439074305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3C7E7-7566-421C-91B4-646DC41D5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BEC3C8-5A46-464C-A13D-A6FD743497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DBC9B8-A7DC-4E2B-B719-793119D714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DACA1D1-0342-4B89-875A-576180148D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218B45B-E1F0-4E71-BCC8-DA4B5A7041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047DAEC-9AB0-47A1-AE00-085D879FB1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098646C-DFC2-46C4-B1E8-7AC155D051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1255C2B-F7AD-45C0-A420-A2931104DB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4B9E0-524E-4BF2-BD25-74FDF804C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0CA76DC-B359-40D8-AB57-A8A1896E8B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64FDEAD-00B9-4788-B160-0C86BBBBC2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234912E-A5A4-4DA0-AFD8-1AF2EB9E47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6D2137B-1CE2-42B0-A9F4-A338E298BE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CBA6CC3-FD9F-477B-9BEF-F3C4B29E5B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AE8E4DE-ECB1-4B86-AE3F-B5317BFE21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34F0B0B-09E1-467F-AAB3-4670005166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5963188-A0F5-4B8D-8DB1-BC6FD0C44B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557CBF7-44C4-446E-8F9E-2F99DE3935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14F2163-0889-4238-B3C5-9C96702371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AB07D-B4F3-4A39-ADB3-CE5A38D30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54BE9FB-EDB6-4E17-86DC-88E7033619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FE6020E-5F08-47C7-A7D7-76D4961AC7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771831C-772C-4F91-86C7-02725E7BA5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38C930A-E8E6-4FB4-87B6-A2EA938D45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E233916-E65D-404A-B35D-E80D1A5918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78455B8-0F65-4EBA-B695-8972733E00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818BDF1-5C58-4505-94EE-35E920D495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CDD4694-3EE5-4E82-BD61-87BC53DE4C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E52D6B7-09D0-42B3-BE89-C42F5D3BD6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99E0FA4-C5C8-46BE-A54F-BDEDC143B1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FA48F-B8C7-4AB3-B150-251E2985C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08A2AD6-7F13-418C-9578-4C318DFCEF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7300073-5292-49BD-AB89-625CCDA71F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05A2F4B-446D-4328-BFC9-E2378C1EA5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DC53A9D-9160-4CCB-AC38-83C4395F5D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377A252-7185-45C3-A9F4-B731AE406D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1105301-A958-4FE8-971A-3828955A73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2395A19-38FB-4188-AE26-B6A8E30A1E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F1D1C23-340A-4F59-A685-1CA388B07C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6465205-3EFF-4F1A-912D-29F991FE44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DF55C4C-11BD-4AA0-9776-A008692588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1674F-E2DC-4F94-BAE7-6E6532BB2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C399951-93FF-4DC5-9DE6-18B25FF7FA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8206FF-C3E4-4783-97D7-0B6F1C99DF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2189D5-58AC-43B0-80F3-B6514F091D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4FA683-5FF4-4F41-A2C3-660C613D17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4528D7-C1DC-4BFD-8806-C234881B4A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69A601-EC27-4191-B5E1-07752AE47C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668F48-55AF-4726-A6BB-465F7D7D21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375A97-418F-4A77-94F7-86CF2936C9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F2E87E-0928-4A4E-8F9D-C1CA420BAD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04E394-C66A-40D0-B2CE-7C2BB99B4A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4F751-7FCC-4CB2-B090-B875EE832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57B4CE-B6E2-463F-A091-D7B6AEA2D5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D9026D-9F0C-49D4-A2C4-BDB7E5DCFB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C180FE-7354-47E1-9C78-CD67BE28D3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541D8FB-66C0-4999-8805-C9817601BE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C70C14B-C4BD-490D-A78E-6593E38F44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0F262CF-237A-4232-BAE7-0BA8F8C1A5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8F0D9E3-0E88-4BF5-9884-E5D248CBCB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3779A13-C05F-41F1-99FF-70768E83AE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18A5EE6-954C-4127-AD6D-4DA1C880DA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2B5F65D-EC3B-4E6C-B7E8-9BDEAACF57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90529-E693-41FA-B992-B7844666A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30ECFC0-727C-4839-BD34-AC2B5D0D41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0CFF075-5BD9-47E8-BE47-F25FC25E8A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F1FB1B0-A233-4869-9EE0-CD843F0A0F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1BC36B4-BB91-46B7-B2AF-E0F77C43D3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B1F4930-D3C9-4498-86F4-250A1C7BD9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9A27E9-D411-4C31-B891-480D3C5640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124E66-2B0C-48D5-A1E9-5209B441D9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B10844-035C-4652-9356-CCBF56525E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AB8558-B3FB-40E2-8CC6-982D4DE53B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314264-1CE1-45AD-828F-15E7737E58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5F54D-FE87-44BC-B4F3-EA654777B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6233AC-C8E5-498A-92AA-5DA93285FE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4217AB-120E-4FC4-B9F1-F5BEF7DD3D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E81F03-20E7-448A-86AC-73D536C104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71621A-C5CD-4C8C-AB26-3ACD16E541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3B8A3D-1DDB-4452-B3A6-D913979C83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9D8CD0-F16B-49A4-A1E8-3E3A302AF7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B49C6D-D84B-43FD-9F0D-9DF6288D623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576AA-15BE-4051-B15C-2F3681554A7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543DF-8523-474E-AE20-9C727B2E9B9F}"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4736-F189-41FB-997E-9D6C4D3B3A76}"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610D6-7FF1-416E-8EB5-088917F7022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2C7CF-C33D-4124-83B5-E0E7D0EAB8D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77609-2600-4E39-8087-800BC3939BC0}"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98A93-1F32-4B2A-9F1E-FDB8D9019001}"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DECA9-10A1-4E45-A139-7E8B008FC51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ubTitle"/>
          </p:nvPr>
        </p:nvSpPr>
        <p:spPr>
          <a:xfrm>
            <a:off x="914400" y="3886200"/>
            <a:ext cx="7238880" cy="1752480"/>
          </a:xfrm>
          <a:prstGeom prst="rect">
            <a:avLst/>
          </a:prstGeom>
          <a:noFill/>
          <a:ln w="0">
            <a:noFill/>
          </a:ln>
        </p:spPr>
        <p:txBody>
          <a:bodyPr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olas"/>
                <a:ea typeface="Consolas"/>
              </a:rPr>
              <a:t>SOL Review Materials for Unit Two: </a:t>
            </a:r>
            <a:endParaRPr b="0" lang="en-US" sz="2600" spc="-1" strike="noStrike">
              <a:solidFill>
                <a:srgbClr val="ffffff"/>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olas"/>
                <a:ea typeface="Consolas"/>
              </a:rPr>
              <a:t>Getting Down to Business:</a:t>
            </a:r>
            <a:endParaRPr b="0" lang="en-US" sz="2600" spc="-1" strike="noStrike">
              <a:solidFill>
                <a:srgbClr val="ffffff"/>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olas"/>
                <a:ea typeface="Consolas"/>
              </a:rPr>
              <a:t>The Growth of Big Business in America</a:t>
            </a:r>
            <a:endParaRPr b="0" lang="en-US" sz="2600" spc="-1" strike="noStrike">
              <a:solidFill>
                <a:srgbClr val="ffffff"/>
              </a:solidFill>
              <a:latin typeface="Tw Cen MT"/>
            </a:endParaRPr>
          </a:p>
        </p:txBody>
      </p:sp>
      <p:pic>
        <p:nvPicPr>
          <p:cNvPr id="351" name="Picture 6" descr=""/>
          <p:cNvPicPr/>
          <p:nvPr/>
        </p:nvPicPr>
        <p:blipFill>
          <a:blip r:embed="rId1"/>
          <a:stretch/>
        </p:blipFill>
        <p:spPr>
          <a:xfrm>
            <a:off x="1828800" y="609480"/>
            <a:ext cx="5029200" cy="327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75f55"/>
                </a:solidFill>
                <a:latin typeface="Consolas"/>
                <a:ea typeface="Consolas"/>
              </a:rPr>
              <a:t>9.  John D. Rockefeller dominated the oil industry during the 19</a:t>
            </a:r>
            <a:r>
              <a:rPr b="1" lang="en-US" sz="3000" spc="-1" strike="noStrike" baseline="30000">
                <a:solidFill>
                  <a:srgbClr val="775f55"/>
                </a:solidFill>
                <a:latin typeface="Consolas"/>
                <a:ea typeface="Consolas"/>
              </a:rPr>
              <a:t>th</a:t>
            </a:r>
            <a:r>
              <a:rPr b="1" lang="en-US" sz="3000" spc="-1" strike="noStrike">
                <a:solidFill>
                  <a:srgbClr val="775f55"/>
                </a:solidFill>
                <a:latin typeface="Consolas"/>
                <a:ea typeface="Consolas"/>
              </a:rPr>
              <a:t> Century.</a:t>
            </a:r>
            <a:endParaRPr b="0" lang="en-US" sz="3000" spc="-1" strike="noStrike">
              <a:solidFill>
                <a:srgbClr val="775f55"/>
              </a:solidFill>
              <a:latin typeface="Tw Cen MT"/>
            </a:endParaRPr>
          </a:p>
        </p:txBody>
      </p:sp>
      <p:sp>
        <p:nvSpPr>
          <p:cNvPr id="374" name=""/>
          <p:cNvSpPr txBox="1"/>
          <p:nvPr/>
        </p:nvSpPr>
        <p:spPr>
          <a:xfrm>
            <a:off x="609120" y="1589040"/>
            <a:ext cx="3886200" cy="457200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olas"/>
                <a:ea typeface="Consolas"/>
              </a:rPr>
              <a:t>John D. Rockefeller’s Standard Oil Company was the leading refiner of petroleum in the United States.  Kerosene was originally what Rockefeller originally produced.  After the invention of the light bulb, he changed the business to refine petroleum into motor oil.</a:t>
            </a:r>
            <a:endParaRPr b="0" lang="en-US" sz="2200" spc="-1" strike="noStrike">
              <a:solidFill>
                <a:srgbClr val="000000"/>
              </a:solidFill>
              <a:latin typeface="Tw Cen MT"/>
            </a:endParaRPr>
          </a:p>
        </p:txBody>
      </p:sp>
      <p:pic>
        <p:nvPicPr>
          <p:cNvPr id="375" name="Content Placeholder 2" descr=""/>
          <p:cNvPicPr/>
          <p:nvPr/>
        </p:nvPicPr>
        <p:blipFill>
          <a:blip r:embed="rId1"/>
          <a:stretch/>
        </p:blipFill>
        <p:spPr>
          <a:xfrm>
            <a:off x="5205240" y="1589040"/>
            <a:ext cx="316548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228600"/>
            <a:ext cx="86104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Consolas"/>
                <a:ea typeface="Consolas"/>
              </a:rPr>
              <a:t>10.  Andrew Carnegie was the leader of the steel industry in 19</a:t>
            </a:r>
            <a:r>
              <a:rPr b="1" lang="en-US" sz="2800" spc="-1" strike="noStrike" baseline="30000">
                <a:solidFill>
                  <a:srgbClr val="775f55"/>
                </a:solidFill>
                <a:latin typeface="Consolas"/>
                <a:ea typeface="Consolas"/>
              </a:rPr>
              <a:t>th</a:t>
            </a:r>
            <a:r>
              <a:rPr b="1" lang="en-US" sz="2800" spc="-1" strike="noStrike">
                <a:solidFill>
                  <a:srgbClr val="775f55"/>
                </a:solidFill>
                <a:latin typeface="Consolas"/>
                <a:ea typeface="Consolas"/>
              </a:rPr>
              <a:t> Century America.</a:t>
            </a:r>
            <a:endParaRPr b="0" lang="en-US" sz="2800" spc="-1" strike="noStrike">
              <a:solidFill>
                <a:srgbClr val="775f55"/>
              </a:solidFill>
              <a:latin typeface="Tw Cen MT"/>
            </a:endParaRPr>
          </a:p>
        </p:txBody>
      </p:sp>
      <p:sp>
        <p:nvSpPr>
          <p:cNvPr id="377" name=""/>
          <p:cNvSpPr txBox="1"/>
          <p:nvPr/>
        </p:nvSpPr>
        <p:spPr>
          <a:xfrm>
            <a:off x="609120" y="1589040"/>
            <a:ext cx="3886200" cy="4572000"/>
          </a:xfrm>
          <a:prstGeom prst="rect">
            <a:avLst/>
          </a:prstGeom>
          <a:noFill/>
          <a:ln w="0">
            <a:noFill/>
          </a:ln>
        </p:spPr>
        <p:txBody>
          <a:bodyPr anchor="t">
            <a:normAutofit fontScale="98000"/>
          </a:bodyPr>
          <a:p>
            <a:pPr marL="312480" indent="-3124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olas"/>
                <a:ea typeface="Consolas"/>
              </a:rPr>
              <a:t>Andrew Carnegie was the leader of the US Steel Corporation, and established a virtual monopoly over the industry.  His company provided the steel for railroads, skyscrapers, and even the Brooklyn Bridge!</a:t>
            </a:r>
            <a:endParaRPr b="0" lang="en-US" sz="2500" spc="-1" strike="noStrike">
              <a:solidFill>
                <a:srgbClr val="000000"/>
              </a:solidFill>
              <a:latin typeface="Tw Cen MT"/>
            </a:endParaRPr>
          </a:p>
        </p:txBody>
      </p:sp>
      <p:pic>
        <p:nvPicPr>
          <p:cNvPr id="378" name="Content Placeholder 5" descr=""/>
          <p:cNvPicPr/>
          <p:nvPr/>
        </p:nvPicPr>
        <p:blipFill>
          <a:blip r:embed="rId1"/>
          <a:stretch/>
        </p:blipFill>
        <p:spPr>
          <a:xfrm>
            <a:off x="5124600" y="1589040"/>
            <a:ext cx="332712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4560" y="228600"/>
            <a:ext cx="84582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Consolas"/>
                <a:ea typeface="Consolas"/>
              </a:rPr>
              <a:t>11.  Cornelius Vanderbilt dominated the railroad industry east of the Mississippi.</a:t>
            </a:r>
            <a:endParaRPr b="0" lang="en-US" sz="2800" spc="-1" strike="noStrike">
              <a:solidFill>
                <a:srgbClr val="775f55"/>
              </a:solidFill>
              <a:latin typeface="Tw Cen MT"/>
            </a:endParaRPr>
          </a:p>
        </p:txBody>
      </p:sp>
      <p:sp>
        <p:nvSpPr>
          <p:cNvPr id="380" name=""/>
          <p:cNvSpPr txBox="1"/>
          <p:nvPr/>
        </p:nvSpPr>
        <p:spPr>
          <a:xfrm>
            <a:off x="152280" y="1600200"/>
            <a:ext cx="3200400" cy="48880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olas"/>
                <a:ea typeface="Consolas"/>
              </a:rPr>
              <a:t>Cornelius Vanderbilt was the leading railroad baron of his lifetime, and eventually controlled almost all of the railroads in the United States east of the Mississippi River.   He also founded Vanderbilt University in Tennessee!</a:t>
            </a:r>
            <a:endParaRPr b="0" lang="en-US" sz="2200" spc="-1" strike="noStrike">
              <a:solidFill>
                <a:srgbClr val="000000"/>
              </a:solidFill>
              <a:latin typeface="Tw Cen MT"/>
            </a:endParaRPr>
          </a:p>
        </p:txBody>
      </p:sp>
      <p:pic>
        <p:nvPicPr>
          <p:cNvPr id="381" name="Content Placeholder 5" descr=""/>
          <p:cNvPicPr/>
          <p:nvPr/>
        </p:nvPicPr>
        <p:blipFill>
          <a:blip r:embed="rId1"/>
          <a:stretch/>
        </p:blipFill>
        <p:spPr>
          <a:xfrm>
            <a:off x="3519360" y="1905120"/>
            <a:ext cx="560412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Consolas"/>
                <a:ea typeface="Consolas"/>
              </a:rPr>
              <a:t>12.  Reasons for Industrialization.</a:t>
            </a:r>
            <a:endParaRPr b="0" lang="en-US" sz="32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Consolas"/>
                <a:ea typeface="Consolas"/>
              </a:rPr>
              <a:t>Natural Resources</a:t>
            </a:r>
            <a:r>
              <a:rPr b="0" lang="en-US" sz="2500" spc="-1" strike="noStrike">
                <a:solidFill>
                  <a:srgbClr val="000000"/>
                </a:solidFill>
                <a:latin typeface="Consolas"/>
                <a:ea typeface="Consolas"/>
              </a:rPr>
              <a:t>: The United States is blessed with access to raw materials (</a:t>
            </a:r>
            <a:r>
              <a:rPr b="0" i="1" lang="en-US" sz="2500" spc="-1" strike="noStrike">
                <a:solidFill>
                  <a:srgbClr val="000000"/>
                </a:solidFill>
                <a:latin typeface="Consolas"/>
                <a:ea typeface="Consolas"/>
              </a:rPr>
              <a:t>iron ore, timber, land and water</a:t>
            </a:r>
            <a:r>
              <a:rPr b="0" lang="en-US" sz="2500" spc="-1" strike="noStrike">
                <a:solidFill>
                  <a:srgbClr val="000000"/>
                </a:solidFill>
                <a:latin typeface="Consolas"/>
                <a:ea typeface="Consolas"/>
              </a:rPr>
              <a:t>) and energy (</a:t>
            </a:r>
            <a:r>
              <a:rPr b="0" i="1" lang="en-US" sz="2500" spc="-1" strike="noStrike">
                <a:solidFill>
                  <a:srgbClr val="000000"/>
                </a:solidFill>
                <a:latin typeface="Consolas"/>
                <a:ea typeface="Consolas"/>
              </a:rPr>
              <a:t>oil, coal, natural gas</a:t>
            </a:r>
            <a:r>
              <a:rPr b="0" lang="en-US" sz="2500" spc="-1" strike="noStrike">
                <a:solidFill>
                  <a:srgbClr val="000000"/>
                </a:solidFill>
                <a:latin typeface="Consolas"/>
                <a:ea typeface="Consolas"/>
              </a:rPr>
              <a:t>.)</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Consolas"/>
                <a:ea typeface="Consolas"/>
              </a:rPr>
              <a:t>Cheap Labor</a:t>
            </a:r>
            <a:r>
              <a:rPr b="0" lang="en-US" sz="2500" spc="-1" strike="noStrike">
                <a:solidFill>
                  <a:srgbClr val="000000"/>
                </a:solidFill>
                <a:latin typeface="Consolas"/>
                <a:ea typeface="Consolas"/>
              </a:rPr>
              <a:t>: Low costs associated with labor – because many immigrants were looking for work.</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Consolas"/>
                <a:ea typeface="Consolas"/>
              </a:rPr>
              <a:t>Inventions and Innovations</a:t>
            </a:r>
            <a:r>
              <a:rPr b="0" lang="en-US" sz="2500" spc="-1" strike="noStrike">
                <a:solidFill>
                  <a:srgbClr val="000000"/>
                </a:solidFill>
                <a:latin typeface="Consolas"/>
                <a:ea typeface="Consolas"/>
              </a:rPr>
              <a:t>: Edison, Bell, Ford, the Wright Brothers, the list goes on and on</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Consolas"/>
                <a:ea typeface="Consolas"/>
              </a:rPr>
              <a:t>Financial resources</a:t>
            </a:r>
            <a:r>
              <a:rPr b="0" lang="en-US" sz="2500" spc="-1" strike="noStrike">
                <a:solidFill>
                  <a:srgbClr val="000000"/>
                </a:solidFill>
                <a:latin typeface="Consolas"/>
                <a:ea typeface="Consolas"/>
              </a:rPr>
              <a:t>: capitalist investors like James Pierpont Morgan helped the banking industry.</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228600"/>
            <a:ext cx="87631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Consolas"/>
                <a:ea typeface="Consolas"/>
              </a:rPr>
              <a:t>13. Factors that helped business grow.</a:t>
            </a:r>
            <a:endParaRPr b="0" lang="en-US" sz="3200" spc="-1" strike="noStrike">
              <a:solidFill>
                <a:srgbClr val="775f55"/>
              </a:solidFill>
              <a:latin typeface="Tw Cen MT"/>
            </a:endParaRPr>
          </a:p>
        </p:txBody>
      </p:sp>
      <p:sp>
        <p:nvSpPr>
          <p:cNvPr id="385" name=""/>
          <p:cNvSpPr txBox="1"/>
          <p:nvPr/>
        </p:nvSpPr>
        <p:spPr>
          <a:xfrm>
            <a:off x="228600" y="1588680"/>
            <a:ext cx="3276720" cy="496404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olas"/>
                <a:ea typeface="Consolas"/>
              </a:rPr>
              <a:t>National markets created by transportation advances – railroads, canals, and highways.</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olas"/>
                <a:ea typeface="Consolas"/>
              </a:rPr>
              <a:t>Advertising – through catalogs and posters originally, but later via the radio.</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olas"/>
                <a:ea typeface="Consolas"/>
              </a:rPr>
              <a:t>Lower-cost production – assembly lines, for example.</a:t>
            </a:r>
            <a:endParaRPr b="0" lang="en-US" sz="2200" spc="-1" strike="noStrike">
              <a:solidFill>
                <a:srgbClr val="000000"/>
              </a:solidFill>
              <a:latin typeface="Tw Cen MT"/>
            </a:endParaRPr>
          </a:p>
        </p:txBody>
      </p:sp>
      <p:pic>
        <p:nvPicPr>
          <p:cNvPr id="386" name="Content Placeholder 2" descr=""/>
          <p:cNvPicPr/>
          <p:nvPr/>
        </p:nvPicPr>
        <p:blipFill>
          <a:blip r:embed="rId1"/>
          <a:stretch/>
        </p:blipFill>
        <p:spPr>
          <a:xfrm>
            <a:off x="3429000" y="1676520"/>
            <a:ext cx="5410080" cy="3244680"/>
          </a:xfrm>
          <a:prstGeom prst="rect">
            <a:avLst/>
          </a:prstGeom>
          <a:ln w="0">
            <a:noFill/>
          </a:ln>
        </p:spPr>
      </p:pic>
      <p:sp>
        <p:nvSpPr>
          <p:cNvPr id="387" name="Rounded Rectangle 3"/>
          <p:cNvSpPr/>
          <p:nvPr/>
        </p:nvSpPr>
        <p:spPr>
          <a:xfrm>
            <a:off x="3200400" y="5029200"/>
            <a:ext cx="5715000" cy="1371600"/>
          </a:xfrm>
          <a:prstGeom prst="roundRect">
            <a:avLst>
              <a:gd name="adj" fmla="val 16667"/>
            </a:avLst>
          </a:prstGeom>
          <a:solidFill>
            <a:srgbClr val="dd8047"/>
          </a:solidFill>
          <a:ln w="47520">
            <a:solidFill>
              <a:srgbClr val="ffffff"/>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Consolas"/>
                <a:ea typeface="Consolas"/>
              </a:rPr>
              <a:t>The photograph above is from Michigan.  Note the train in the front and the steamship – carrying US Mail – in the background.  Low shipping costs allowed companies to expand their markets from local communities to the entire nation. Business profited and grew rapidl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Consolas"/>
                <a:ea typeface="Consolas"/>
              </a:rPr>
              <a:t>14.  The Negative Effects of Industrialization</a:t>
            </a:r>
            <a:endParaRPr b="0" lang="en-US" sz="3200" spc="-1" strike="noStrike">
              <a:solidFill>
                <a:srgbClr val="775f55"/>
              </a:solidFill>
              <a:latin typeface="Tw Cen MT"/>
            </a:endParaRPr>
          </a:p>
        </p:txBody>
      </p:sp>
      <p:sp>
        <p:nvSpPr>
          <p:cNvPr id="389" name=""/>
          <p:cNvSpPr txBox="1"/>
          <p:nvPr/>
        </p:nvSpPr>
        <p:spPr>
          <a:xfrm>
            <a:off x="609120" y="1589040"/>
            <a:ext cx="3886200" cy="457200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olas"/>
                <a:ea typeface="Consolas"/>
              </a:rPr>
              <a:t>Businesses hoping to save money on labor costs often engaged in: </a:t>
            </a:r>
            <a:endParaRPr b="0" lang="en-US" sz="20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nsolas"/>
                <a:ea typeface="Consolas"/>
              </a:rPr>
              <a:t>CHILD LABOR </a:t>
            </a:r>
            <a:r>
              <a:rPr b="0" lang="en-US" sz="2000" spc="-1" strike="noStrike">
                <a:solidFill>
                  <a:srgbClr val="000000"/>
                </a:solidFill>
                <a:latin typeface="Consolas"/>
                <a:ea typeface="Consolas"/>
              </a:rPr>
              <a:t>– denying an education to children and paying them virtually nothing.</a:t>
            </a:r>
            <a:endParaRPr b="0" lang="en-US" sz="2000" spc="-1" strike="noStrike">
              <a:solidFill>
                <a:srgbClr val="000000"/>
              </a:solidFill>
              <a:latin typeface="Tw Cen MT"/>
            </a:endParaRPr>
          </a:p>
          <a:p>
            <a:pPr>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nsolas"/>
                <a:ea typeface="Consolas"/>
              </a:rPr>
              <a:t>LOW WAGES </a:t>
            </a:r>
            <a:r>
              <a:rPr b="0" lang="en-US" sz="2000" spc="-1" strike="noStrike">
                <a:solidFill>
                  <a:srgbClr val="000000"/>
                </a:solidFill>
                <a:latin typeface="Consolas"/>
                <a:ea typeface="Consolas"/>
              </a:rPr>
              <a:t>for employees.</a:t>
            </a:r>
            <a:endParaRPr b="0" lang="en-US" sz="2000" spc="-1" strike="noStrike">
              <a:solidFill>
                <a:srgbClr val="000000"/>
              </a:solidFill>
              <a:latin typeface="Tw Cen MT"/>
            </a:endParaRPr>
          </a:p>
          <a:p>
            <a:pPr>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nsolas"/>
                <a:ea typeface="Consolas"/>
              </a:rPr>
              <a:t>LONG HOURS </a:t>
            </a:r>
            <a:r>
              <a:rPr b="0" lang="en-US" sz="2000" spc="-1" strike="noStrike">
                <a:solidFill>
                  <a:srgbClr val="000000"/>
                </a:solidFill>
                <a:latin typeface="Consolas"/>
                <a:ea typeface="Consolas"/>
              </a:rPr>
              <a:t>– 14 to 16 hours a day was not uncommon.</a:t>
            </a:r>
            <a:endParaRPr b="0" lang="en-US" sz="2000" spc="-1" strike="noStrike">
              <a:solidFill>
                <a:srgbClr val="000000"/>
              </a:solidFill>
              <a:latin typeface="Tw Cen MT"/>
            </a:endParaRPr>
          </a:p>
          <a:p>
            <a:pPr>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nsolas"/>
                <a:ea typeface="Consolas"/>
              </a:rPr>
              <a:t>UNSAFE WORKING CONDITIONS </a:t>
            </a:r>
            <a:r>
              <a:rPr b="0" lang="en-US" sz="2000" spc="-1" strike="noStrike">
                <a:solidFill>
                  <a:srgbClr val="000000"/>
                </a:solidFill>
                <a:latin typeface="Consolas"/>
                <a:ea typeface="Consolas"/>
              </a:rPr>
              <a:t>which resulted in injuries and death.</a:t>
            </a:r>
            <a:endParaRPr b="0" lang="en-US" sz="2000" spc="-1" strike="noStrike">
              <a:solidFill>
                <a:srgbClr val="000000"/>
              </a:solidFill>
              <a:latin typeface="Tw Cen MT"/>
            </a:endParaRPr>
          </a:p>
        </p:txBody>
      </p:sp>
      <p:pic>
        <p:nvPicPr>
          <p:cNvPr id="390" name="Content Placeholder 3" descr=""/>
          <p:cNvPicPr/>
          <p:nvPr/>
        </p:nvPicPr>
        <p:blipFill>
          <a:blip r:embed="rId1"/>
          <a:stretch/>
        </p:blipFill>
        <p:spPr>
          <a:xfrm>
            <a:off x="5173560" y="1589040"/>
            <a:ext cx="322920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Consolas"/>
                <a:ea typeface="Consolas"/>
              </a:rPr>
              <a:t>15. The American Federation of Labor and other Unions formed.</a:t>
            </a:r>
            <a:endParaRPr b="0" lang="en-US" sz="3200" spc="-1" strike="noStrike">
              <a:solidFill>
                <a:srgbClr val="775f55"/>
              </a:solidFill>
              <a:latin typeface="Tw Cen MT"/>
            </a:endParaRPr>
          </a:p>
        </p:txBody>
      </p:sp>
      <p:sp>
        <p:nvSpPr>
          <p:cNvPr id="392" name=""/>
          <p:cNvSpPr txBox="1"/>
          <p:nvPr/>
        </p:nvSpPr>
        <p:spPr>
          <a:xfrm>
            <a:off x="609120" y="1589040"/>
            <a:ext cx="3886200" cy="457200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olas"/>
                <a:ea typeface="Consolas"/>
              </a:rPr>
              <a:t>The most important labor union of the late 19</a:t>
            </a:r>
            <a:r>
              <a:rPr b="0" lang="en-US" sz="2200" spc="-1" strike="noStrike" baseline="30000">
                <a:solidFill>
                  <a:srgbClr val="000000"/>
                </a:solidFill>
                <a:latin typeface="Consolas"/>
                <a:ea typeface="Consolas"/>
              </a:rPr>
              <a:t>th</a:t>
            </a:r>
            <a:r>
              <a:rPr b="0" lang="en-US" sz="2200" spc="-1" strike="noStrike">
                <a:solidFill>
                  <a:srgbClr val="000000"/>
                </a:solidFill>
                <a:latin typeface="Consolas"/>
                <a:ea typeface="Consolas"/>
              </a:rPr>
              <a:t> Century and the 20</a:t>
            </a:r>
            <a:r>
              <a:rPr b="0" lang="en-US" sz="2200" spc="-1" strike="noStrike" baseline="30000">
                <a:solidFill>
                  <a:srgbClr val="000000"/>
                </a:solidFill>
                <a:latin typeface="Consolas"/>
                <a:ea typeface="Consolas"/>
              </a:rPr>
              <a:t>th</a:t>
            </a:r>
            <a:r>
              <a:rPr b="0" lang="en-US" sz="2200" spc="-1" strike="noStrike">
                <a:solidFill>
                  <a:srgbClr val="000000"/>
                </a:solidFill>
                <a:latin typeface="Consolas"/>
                <a:ea typeface="Consolas"/>
              </a:rPr>
              <a:t> Century was the American Federation of Labor.</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olas"/>
                <a:ea typeface="Consolas"/>
              </a:rPr>
              <a:t>Samuel Gompers was its leader. </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olas"/>
                <a:ea typeface="Consolas"/>
              </a:rPr>
              <a:t>The group wanted higher pay, an eight hour work day, improved safety conditions, and the right to collective bargaining.</a:t>
            </a: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93" name="Content Placeholder 2" descr=""/>
          <p:cNvPicPr/>
          <p:nvPr/>
        </p:nvPicPr>
        <p:blipFill>
          <a:blip r:embed="rId1"/>
          <a:stretch/>
        </p:blipFill>
        <p:spPr>
          <a:xfrm>
            <a:off x="4059360" y="18288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1600200" y="5486040"/>
            <a:ext cx="7315200" cy="1219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Andrew Carnegie’s company slashed workers wages in 1892, his workers went on strike.  When the company tried to bring in strikebreakers – or scabs – to take their jobs, they fought back violently.  The Homestead Strike left dozens dead.  Carnegie, however, got his way.  The striking workers were fired and replaced with the help of the Pennsylvania State Militia.</a:t>
            </a:r>
            <a:endParaRPr b="0" lang="en-US" sz="1600" spc="-1" strike="noStrike">
              <a:solidFill>
                <a:srgbClr val="000000"/>
              </a:solidFill>
              <a:latin typeface="Tw Cen MT"/>
            </a:endParaRPr>
          </a:p>
        </p:txBody>
      </p:sp>
      <p:sp>
        <p:nvSpPr>
          <p:cNvPr id="395"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b95b22"/>
                </a:solidFill>
                <a:latin typeface="Tw Cen MT"/>
              </a:rPr>
              <a:t>16.  Workers fought back against wage cuts at the Homestead Strike in Pennsylvania.</a:t>
            </a:r>
            <a:endParaRPr b="0" lang="en-US" sz="2500" spc="-1" strike="noStrike">
              <a:solidFill>
                <a:srgbClr val="775f55"/>
              </a:solidFill>
              <a:latin typeface="Tw Cen MT"/>
            </a:endParaRPr>
          </a:p>
        </p:txBody>
      </p:sp>
      <p:pic>
        <p:nvPicPr>
          <p:cNvPr id="396" name="Picture Placeholder 5" descr=""/>
          <p:cNvPicPr/>
          <p:nvPr/>
        </p:nvPicPr>
        <p:blipFill>
          <a:blip r:embed="rId1"/>
          <a:srcRect l="0" t="25589" r="0" b="25589"/>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5480" y="228600"/>
            <a:ext cx="8915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Consolas"/>
                <a:ea typeface="Consolas"/>
              </a:rPr>
              <a:t>1.  Farmers replaced laborers with machines like reapers, tractors.</a:t>
            </a:r>
            <a:endParaRPr b="0" lang="en-US" sz="3200" spc="-1" strike="noStrike">
              <a:solidFill>
                <a:srgbClr val="775f55"/>
              </a:solidFill>
              <a:latin typeface="Tw Cen MT"/>
            </a:endParaRPr>
          </a:p>
        </p:txBody>
      </p:sp>
      <p:sp>
        <p:nvSpPr>
          <p:cNvPr id="353" name=""/>
          <p:cNvSpPr txBox="1"/>
          <p:nvPr/>
        </p:nvSpPr>
        <p:spPr>
          <a:xfrm>
            <a:off x="304920" y="1589040"/>
            <a:ext cx="3657600" cy="4572000"/>
          </a:xfrm>
          <a:prstGeom prst="rect">
            <a:avLst/>
          </a:prstGeom>
          <a:noFill/>
          <a:ln w="0">
            <a:noFill/>
          </a:ln>
        </p:spPr>
        <p:txBody>
          <a:bodyPr anchor="t">
            <a:normAutofit fontScale="94000"/>
          </a:bodyPr>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olas"/>
                <a:ea typeface="Consolas"/>
              </a:rPr>
              <a:t>Mechanization reduced the need for farm hands.</a:t>
            </a:r>
            <a:endParaRPr b="0" lang="en-US" sz="25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olas"/>
                <a:ea typeface="Consolas"/>
              </a:rPr>
              <a:t>New inventions like the tractor and mechanical reaper replaced farmers.</a:t>
            </a:r>
            <a:endParaRPr b="0" lang="en-US" sz="25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olas"/>
                <a:ea typeface="Consolas"/>
              </a:rPr>
              <a:t>New jobs in industry developed in Northerner cities. Urbanization began.</a:t>
            </a:r>
            <a:endParaRPr b="0" lang="en-US" sz="2500" spc="-1" strike="noStrike">
              <a:solidFill>
                <a:srgbClr val="000000"/>
              </a:solidFill>
              <a:latin typeface="Tw Cen MT"/>
            </a:endParaRPr>
          </a:p>
        </p:txBody>
      </p:sp>
      <p:pic>
        <p:nvPicPr>
          <p:cNvPr id="354" name="Content Placeholder 2" descr=""/>
          <p:cNvPicPr/>
          <p:nvPr/>
        </p:nvPicPr>
        <p:blipFill>
          <a:blip r:embed="rId1"/>
          <a:stretch/>
        </p:blipFill>
        <p:spPr>
          <a:xfrm>
            <a:off x="4114800" y="1828800"/>
            <a:ext cx="469584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5f55"/>
                </a:solidFill>
                <a:latin typeface="Consolas"/>
                <a:ea typeface="Consolas"/>
              </a:rPr>
              <a:t>2. Urban areas attracted workers in new industries.</a:t>
            </a:r>
            <a:endParaRPr b="0" lang="en-US" sz="4000" spc="-1" strike="noStrike">
              <a:solidFill>
                <a:srgbClr val="775f55"/>
              </a:solidFill>
              <a:latin typeface="Tw Cen MT"/>
            </a:endParaRPr>
          </a:p>
        </p:txBody>
      </p:sp>
      <p:sp>
        <p:nvSpPr>
          <p:cNvPr id="356" name="PlaceHolder 2"/>
          <p:cNvSpPr>
            <a:spLocks noGrp="1"/>
          </p:cNvSpPr>
          <p:nvPr>
            <p:ph/>
          </p:nvPr>
        </p:nvSpPr>
        <p:spPr>
          <a:xfrm>
            <a:off x="609120" y="1752120"/>
            <a:ext cx="1752840" cy="4343400"/>
          </a:xfrm>
          <a:prstGeom prst="rect">
            <a:avLst/>
          </a:prstGeom>
          <a:solidFill>
            <a:srgbClr val="dd8047"/>
          </a:solidFill>
          <a:ln cap="sq" w="50760">
            <a:solidFill>
              <a:srgbClr val="dd8047"/>
            </a:solidFill>
            <a:miter/>
          </a:ln>
        </p:spPr>
        <p:txBody>
          <a:bodyPr lIns="137160" rIns="137160" tIns="182880" bIns="91440" anchor="t">
            <a:normAutofit fontScale="99000"/>
          </a:bodyPr>
          <a:p>
            <a:pPr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olas"/>
                <a:ea typeface="Consolas"/>
              </a:rPr>
              <a:t>Railroads</a:t>
            </a:r>
            <a:endParaRPr b="0" lang="en-US" sz="1700" spc="-1" strike="noStrike">
              <a:solidFill>
                <a:srgbClr val="000000"/>
              </a:solidFill>
              <a:latin typeface="Tw Cen MT"/>
            </a:endParaRPr>
          </a:p>
          <a:p>
            <a:pPr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olas"/>
                <a:ea typeface="Consolas"/>
              </a:rPr>
              <a:t>Meatpacking</a:t>
            </a:r>
            <a:endParaRPr b="0" lang="en-US" sz="1700" spc="-1" strike="noStrike">
              <a:solidFill>
                <a:srgbClr val="000000"/>
              </a:solidFill>
              <a:latin typeface="Tw Cen MT"/>
            </a:endParaRPr>
          </a:p>
          <a:p>
            <a:pPr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olas"/>
                <a:ea typeface="Consolas"/>
              </a:rPr>
              <a:t>Textile Mills</a:t>
            </a:r>
            <a:endParaRPr b="0" lang="en-US" sz="1700" spc="-1" strike="noStrike">
              <a:solidFill>
                <a:srgbClr val="000000"/>
              </a:solidFill>
              <a:latin typeface="Tw Cen MT"/>
            </a:endParaRPr>
          </a:p>
          <a:p>
            <a:pPr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olas"/>
                <a:ea typeface="Consolas"/>
              </a:rPr>
              <a:t>Ironworks &amp; Steel</a:t>
            </a:r>
            <a:endParaRPr b="0" lang="en-US" sz="1700" spc="-1" strike="noStrike">
              <a:solidFill>
                <a:srgbClr val="000000"/>
              </a:solidFill>
              <a:latin typeface="Tw Cen MT"/>
            </a:endParaRPr>
          </a:p>
          <a:p>
            <a:pPr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olas"/>
                <a:ea typeface="Consolas"/>
              </a:rPr>
              <a:t>Oil Refineries</a:t>
            </a:r>
            <a:endParaRPr b="0" lang="en-US" sz="1700" spc="-1" strike="noStrike">
              <a:solidFill>
                <a:srgbClr val="000000"/>
              </a:solidFill>
              <a:latin typeface="Tw Cen MT"/>
            </a:endParaRPr>
          </a:p>
          <a:p>
            <a:pPr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olas"/>
                <a:ea typeface="Consolas"/>
              </a:rPr>
              <a:t>Construction</a:t>
            </a:r>
            <a:endParaRPr b="0" lang="en-US" sz="1700" spc="-1" strike="noStrike">
              <a:solidFill>
                <a:srgbClr val="000000"/>
              </a:solidFill>
              <a:latin typeface="Tw Cen MT"/>
            </a:endParaRPr>
          </a:p>
          <a:p>
            <a:pPr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olas"/>
                <a:ea typeface="Consolas"/>
              </a:rPr>
              <a:t>Electrical Appliances</a:t>
            </a:r>
            <a:endParaRPr b="0" lang="en-US" sz="1700" spc="-1" strike="noStrike">
              <a:solidFill>
                <a:srgbClr val="000000"/>
              </a:solidFill>
              <a:latin typeface="Tw Cen MT"/>
            </a:endParaRPr>
          </a:p>
        </p:txBody>
      </p:sp>
      <p:sp>
        <p:nvSpPr>
          <p:cNvPr id="357" name=""/>
          <p:cNvSpPr txBox="1"/>
          <p:nvPr/>
        </p:nvSpPr>
        <p:spPr>
          <a:xfrm>
            <a:off x="2362320" y="1752120"/>
            <a:ext cx="6400800" cy="441972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Industrial development in cities created increased labor needs.  Electrification, the use of assembly lines, and the efficiency of new factory methods made new industries thrive!</a:t>
            </a:r>
            <a:endParaRPr b="0" lang="en-US" sz="1800" spc="-1" strike="noStrike">
              <a:solidFill>
                <a:srgbClr val="000000"/>
              </a:solidFill>
              <a:latin typeface="Tw Cen MT"/>
            </a:endParaRPr>
          </a:p>
        </p:txBody>
      </p:sp>
      <p:pic>
        <p:nvPicPr>
          <p:cNvPr id="358" name="Picture 2" descr=""/>
          <p:cNvPicPr/>
          <p:nvPr/>
        </p:nvPicPr>
        <p:blipFill>
          <a:blip r:embed="rId1"/>
          <a:stretch/>
        </p:blipFill>
        <p:spPr>
          <a:xfrm>
            <a:off x="2994120" y="3124080"/>
            <a:ext cx="5041800" cy="306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5f55"/>
                </a:solidFill>
                <a:latin typeface="Consolas"/>
                <a:ea typeface="Consolas"/>
              </a:rPr>
              <a:t>3. Railroads led the way to an industrialized America.</a:t>
            </a:r>
            <a:endParaRPr b="0" lang="en-US" sz="4000" spc="-1" strike="noStrike">
              <a:solidFill>
                <a:srgbClr val="775f55"/>
              </a:solidFill>
              <a:latin typeface="Tw Cen MT"/>
            </a:endParaRPr>
          </a:p>
        </p:txBody>
      </p:sp>
      <p:sp>
        <p:nvSpPr>
          <p:cNvPr id="360" name=""/>
          <p:cNvSpPr txBox="1"/>
          <p:nvPr/>
        </p:nvSpPr>
        <p:spPr>
          <a:xfrm>
            <a:off x="609480" y="1589040"/>
            <a:ext cx="4114800" cy="4811760"/>
          </a:xfrm>
          <a:prstGeom prst="rect">
            <a:avLst/>
          </a:prstGeom>
          <a:noFill/>
          <a:ln w="0">
            <a:noFill/>
          </a:ln>
        </p:spPr>
        <p:txBody>
          <a:bodyPr anchor="t">
            <a:normAutofit fontScale="96000"/>
          </a:bodyPr>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olas"/>
                <a:ea typeface="Consolas"/>
              </a:rPr>
              <a:t>They moved the products of Western mining towns (iron, lead, copper, silver, and gold) to the factories – and banks!</a:t>
            </a:r>
            <a:endParaRPr b="0" lang="en-US" sz="20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olas"/>
                <a:ea typeface="Consolas"/>
              </a:rPr>
              <a:t>They connected factories with the resources they needed – for example, coal, coke, and iron to Pittsburgh – to make steel.</a:t>
            </a:r>
            <a:endParaRPr b="0" lang="en-US" sz="20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olas"/>
                <a:ea typeface="Consolas"/>
              </a:rPr>
              <a:t>Transporting finished products and agricultural goods to national markets – cattle, wheat, and all the agricultural goods in California.</a:t>
            </a:r>
            <a:endParaRPr b="0" lang="en-US" sz="20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61" name="Content Placeholder 2" descr=""/>
          <p:cNvPicPr/>
          <p:nvPr/>
        </p:nvPicPr>
        <p:blipFill>
          <a:blip r:embed="rId1"/>
          <a:stretch/>
        </p:blipFill>
        <p:spPr>
          <a:xfrm>
            <a:off x="5334120" y="1589040"/>
            <a:ext cx="290808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5f55"/>
                </a:solidFill>
                <a:latin typeface="Consolas"/>
                <a:ea typeface="Consolas"/>
              </a:rPr>
              <a:t>4.  Mail order catalogues stimulated business – better transportation allowed this!</a:t>
            </a:r>
            <a:endParaRPr b="0" lang="en-US" sz="2400" spc="-1" strike="noStrike">
              <a:solidFill>
                <a:srgbClr val="775f55"/>
              </a:solidFill>
              <a:latin typeface="Tw Cen MT"/>
            </a:endParaRPr>
          </a:p>
        </p:txBody>
      </p:sp>
      <p:sp>
        <p:nvSpPr>
          <p:cNvPr id="363" name=""/>
          <p:cNvSpPr txBox="1"/>
          <p:nvPr/>
        </p:nvSpPr>
        <p:spPr>
          <a:xfrm>
            <a:off x="609120" y="1589040"/>
            <a:ext cx="3886200" cy="4572000"/>
          </a:xfrm>
          <a:prstGeom prst="rect">
            <a:avLst/>
          </a:prstGeom>
          <a:noFill/>
          <a:ln w="0">
            <a:noFill/>
          </a:ln>
        </p:spPr>
        <p:txBody>
          <a:bodyPr anchor="t">
            <a:normAutofit fontScale="97000"/>
          </a:bodyPr>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olas"/>
                <a:ea typeface="Consolas"/>
              </a:rPr>
              <a:t>The Sears Catalog was once the most efficient way to order products from afar.  You would select goods from the mail order catalog, and they would be sent to you – shipped by train and the US Mail.</a:t>
            </a:r>
            <a:endParaRPr b="0" lang="en-US" sz="2700" spc="-1" strike="noStrike">
              <a:solidFill>
                <a:srgbClr val="000000"/>
              </a:solidFill>
              <a:latin typeface="Tw Cen MT"/>
            </a:endParaRPr>
          </a:p>
        </p:txBody>
      </p:sp>
      <p:pic>
        <p:nvPicPr>
          <p:cNvPr id="364" name="Content Placeholder 6" descr=""/>
          <p:cNvPicPr/>
          <p:nvPr/>
        </p:nvPicPr>
        <p:blipFill>
          <a:blip r:embed="rId1"/>
          <a:stretch/>
        </p:blipFill>
        <p:spPr>
          <a:xfrm>
            <a:off x="4724280" y="1676520"/>
            <a:ext cx="3200400" cy="4460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Consolas"/>
                <a:ea typeface="Consolas"/>
              </a:rPr>
              <a:t>5.  New England is known as the center of the Textile Industry.</a:t>
            </a:r>
            <a:endParaRPr b="0" lang="en-US" sz="3600" spc="-1" strike="noStrike">
              <a:solidFill>
                <a:srgbClr val="775f55"/>
              </a:solidFill>
              <a:latin typeface="Tw Cen MT"/>
            </a:endParaRPr>
          </a:p>
        </p:txBody>
      </p:sp>
      <p:pic>
        <p:nvPicPr>
          <p:cNvPr id="366" name="Content Placeholder 1" descr=""/>
          <p:cNvPicPr/>
          <p:nvPr/>
        </p:nvPicPr>
        <p:blipFill>
          <a:blip r:embed="rId1"/>
          <a:stretch/>
        </p:blipFill>
        <p:spPr>
          <a:xfrm>
            <a:off x="1946160" y="1833480"/>
            <a:ext cx="5486400" cy="40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Consolas"/>
                <a:ea typeface="Consolas"/>
              </a:rPr>
              <a:t>6.  Detroit was the center of the automobile industry in America. </a:t>
            </a:r>
            <a:endParaRPr b="0" lang="en-US" sz="3200" spc="-1" strike="noStrike">
              <a:solidFill>
                <a:srgbClr val="775f55"/>
              </a:solidFill>
              <a:latin typeface="Tw Cen MT"/>
            </a:endParaRPr>
          </a:p>
        </p:txBody>
      </p:sp>
      <p:pic>
        <p:nvPicPr>
          <p:cNvPr id="368" name="Content Placeholder 3" descr=""/>
          <p:cNvPicPr/>
          <p:nvPr/>
        </p:nvPicPr>
        <p:blipFill>
          <a:blip r:embed="rId1"/>
          <a:stretch/>
        </p:blipFill>
        <p:spPr>
          <a:xfrm>
            <a:off x="2209680" y="1746360"/>
            <a:ext cx="5131080" cy="434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Consolas"/>
                <a:ea typeface="Consolas"/>
              </a:rPr>
              <a:t>7.  Pittsburgh was the center of the steel industry in America. </a:t>
            </a:r>
            <a:endParaRPr b="0" lang="en-US" sz="3200" spc="-1" strike="noStrike">
              <a:solidFill>
                <a:srgbClr val="775f55"/>
              </a:solidFill>
              <a:latin typeface="Tw Cen MT"/>
            </a:endParaRPr>
          </a:p>
        </p:txBody>
      </p:sp>
      <p:pic>
        <p:nvPicPr>
          <p:cNvPr id="370" name="Content Placeholder 5" descr=""/>
          <p:cNvPicPr/>
          <p:nvPr/>
        </p:nvPicPr>
        <p:blipFill>
          <a:blip r:embed="rId1"/>
          <a:stretch/>
        </p:blipFill>
        <p:spPr>
          <a:xfrm>
            <a:off x="685800" y="1638360"/>
            <a:ext cx="7848720" cy="451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Consolas"/>
                <a:ea typeface="Consolas"/>
              </a:rPr>
              <a:t>8.  Chicago was the center of the meatpacking industry.</a:t>
            </a:r>
            <a:endParaRPr b="0" lang="en-US" sz="3200" spc="-1" strike="noStrike">
              <a:solidFill>
                <a:srgbClr val="775f55"/>
              </a:solidFill>
              <a:latin typeface="Tw Cen MT"/>
            </a:endParaRPr>
          </a:p>
        </p:txBody>
      </p:sp>
      <p:pic>
        <p:nvPicPr>
          <p:cNvPr id="372" name="Content Placeholder 3" descr=""/>
          <p:cNvPicPr/>
          <p:nvPr/>
        </p:nvPicPr>
        <p:blipFill>
          <a:blip r:embed="rId1"/>
          <a:stretch/>
        </p:blipFill>
        <p:spPr>
          <a:xfrm>
            <a:off x="1219320" y="1631880"/>
            <a:ext cx="6629400" cy="4651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8T19:29:54Z</dcterms:created>
  <dc:creator>LATHOMPS</dc:creator>
  <dc:description/>
  <dc:language>en-US</dc:language>
  <cp:lastModifiedBy>vjdean</cp:lastModifiedBy>
  <dcterms:modified xsi:type="dcterms:W3CDTF">2014-03-07T19:47:25Z</dcterms:modified>
  <cp:revision>21</cp:revision>
  <dc:subject/>
  <dc:title>Unit 2</dc:title>
</cp:coreProperties>
</file>